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9A1-0BD0-41C9-9112-84BAFCEE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EF6-0075-4B7C-8C5F-F389486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194-53DC-4A04-A667-B9F39578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CE1-6B13-4879-A6D4-7F291F4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773-EBA2-44F6-8F7B-000CD29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5B6-CEAA-466B-B4D1-9C538A6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600-8A29-43FB-923D-973E3EC2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172-730A-44AC-8325-7AC5AC91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E9D-58AB-40A1-9A89-94B417D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E43-ECBD-4ACC-94FA-A1CF6D8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FB6-F370-4F74-8884-1183606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A5A-ABD3-4533-9566-F77BC82A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F25-6F41-4EE7-A276-6742B721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577960" y="4797360"/>
            <a:ext cx="414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др Владимир Јаковље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826000" y="227664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fso"/>
          <p:cNvPicPr/>
          <p:nvPr/>
        </p:nvPicPr>
        <p:blipFill>
          <a:blip r:embed="rId2"/>
          <a:stretch/>
        </p:blipFill>
        <p:spPr>
          <a:xfrm>
            <a:off x="4932360" y="404640"/>
            <a:ext cx="107172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9" descr=""/>
          <p:cNvPicPr/>
          <p:nvPr/>
        </p:nvPicPr>
        <p:blipFill>
          <a:blip r:embed="rId3"/>
          <a:stretch/>
        </p:blipFill>
        <p:spPr>
          <a:xfrm>
            <a:off x="171360" y="3005280"/>
            <a:ext cx="89791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71640" y="306864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укц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ратегија истраживања у коме се користи мањи број животиња а пружа иста количина инфо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ше истраживачких тимова могу користити органе и ткива исте животиње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ла пилотска студија може да укаже на адекватан број животиња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971640" y="306864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отреба експерименталних система који не користе читаве, живе животиње може се сматрати зам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е су релативне замене, пошто користе ћелије, ткива и орг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е су апсолутне алтернативе, јер не захтевају биолошки материјал (копјутерска симул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ернативе понекад у потпуности замењују животиње, а некада утичу на смењенје броја употребљених животи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инуће животи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1844280"/>
            <a:ext cx="83631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о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 што бржи губитак свести и само жртв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узданом, иреверзибилном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 минималан стрес за животињу и онога ко жртв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едно за онога ко жртв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тибилно са експерим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ономски прихватљ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тоде жртвовања животи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1200" y="1989000"/>
            <a:ext cx="83628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едозирање анесте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рвикална дислок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узија лоб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гиљотина за животи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752480" y="76500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00000" y="1844640"/>
            <a:ext cx="69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обезбеђивање зашт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обезбеђивање 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рганизациј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слов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бедност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ђе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говорнос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оц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говорност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ључених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збеђив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еђај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емикалиј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ски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ј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инцип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лаг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ш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емијс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5724360" y="1341360"/>
            <a:ext cx="2276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900000" y="62064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нципи доб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к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Ð ÐµÐ·ÑÐ»ÑÐ°Ñ ÑÐ»Ð¸ÐºÐ° Ð·Ð° good laboratory practice"/>
          <p:cNvPicPr/>
          <p:nvPr/>
        </p:nvPicPr>
        <p:blipFill>
          <a:blip r:embed="rId1"/>
          <a:srcRect l="0" t="20560" r="0" b="21205"/>
          <a:stretch/>
        </p:blipFill>
        <p:spPr>
          <a:xfrm>
            <a:off x="324000" y="2205000"/>
            <a:ext cx="8388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124000" y="76500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50920" y="1773360"/>
            <a:ext cx="77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ђе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љ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ика представљ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став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ак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невник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љив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умљив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ол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но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жљив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с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ћ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жљив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ан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вих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тат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д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му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6659640" y="2276640"/>
            <a:ext cx="2233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72360" cy="30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0154" t="16531" r="24542" b="7672"/>
          <a:stretch/>
        </p:blipFill>
        <p:spPr>
          <a:xfrm>
            <a:off x="250920" y="907920"/>
            <a:ext cx="8497800" cy="5545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500720" y="2133720"/>
            <a:ext cx="4319280" cy="20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00720" y="4365720"/>
            <a:ext cx="4319280" cy="21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70036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ВРДА ЕТИЧКИХ ПРИНЦ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523880" y="183168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71360" y="2639880"/>
            <a:ext cx="86551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Content Placeholder 3"/>
          <p:cNvGraphicFramePr/>
          <p:nvPr/>
        </p:nvGraphicFramePr>
        <p:xfrm>
          <a:off x="1763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Content Placeholder 3"/>
          <p:cNvGraphicFramePr/>
          <p:nvPr/>
        </p:nvGraphicFramePr>
        <p:xfrm>
          <a:off x="1547640" y="-50760"/>
          <a:ext cx="5472360" cy="68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-50760"/>
                    <a:ext cx="547236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Content Placeholder 3"/>
          <p:cNvGraphicFramePr/>
          <p:nvPr/>
        </p:nvGraphicFramePr>
        <p:xfrm>
          <a:off x="1692360" y="0"/>
          <a:ext cx="5298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298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3"/>
          <p:cNvGraphicFramePr/>
          <p:nvPr/>
        </p:nvGraphicFramePr>
        <p:xfrm>
          <a:off x="1692360" y="0"/>
          <a:ext cx="5298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298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Content Placeholder 3"/>
          <p:cNvGraphicFramePr/>
          <p:nvPr/>
        </p:nvGraphicFramePr>
        <p:xfrm>
          <a:off x="183528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Content Placeholder 3"/>
          <p:cNvGraphicFramePr/>
          <p:nvPr/>
        </p:nvGraphicFramePr>
        <p:xfrm>
          <a:off x="197964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1763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Content Placeholder 3"/>
          <p:cNvGraphicFramePr/>
          <p:nvPr/>
        </p:nvGraphicFramePr>
        <p:xfrm>
          <a:off x="1763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Content Placeholder 3"/>
          <p:cNvGraphicFramePr/>
          <p:nvPr/>
        </p:nvGraphicFramePr>
        <p:xfrm>
          <a:off x="183528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Content Placeholder 3"/>
          <p:cNvGraphicFramePr/>
          <p:nvPr/>
        </p:nvGraphicFramePr>
        <p:xfrm>
          <a:off x="1763640" y="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9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ЕГУЛАТИВА ЗА РАД СА ЕКСПЕРИМЕНТАЛНИМ ЖИВОТИЊАМА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*ИСТОРИЈАТ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1916280"/>
            <a:ext cx="79293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ламент  Енглеске  1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 се може предузети само ако донос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ова знањ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а битно придоносе очувањ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експеримент не може предузимати особа која нема дозволу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лиценц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експеримент се не може предузимати са циљем обучавања у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ануелно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експерименти с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меју изводит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ј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 обзира на новчану кор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Content Placeholder 3"/>
          <p:cNvGraphicFramePr/>
          <p:nvPr/>
        </p:nvGraphicFramePr>
        <p:xfrm>
          <a:off x="190800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Content Placeholder 3"/>
          <p:cNvGraphicFramePr/>
          <p:nvPr/>
        </p:nvGraphicFramePr>
        <p:xfrm>
          <a:off x="1908000" y="1260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60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Content Placeholder 3"/>
          <p:cNvGraphicFramePr/>
          <p:nvPr/>
        </p:nvGraphicFramePr>
        <p:xfrm>
          <a:off x="2050920" y="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Content Placeholder 3"/>
          <p:cNvGraphicFramePr/>
          <p:nvPr/>
        </p:nvGraphicFramePr>
        <p:xfrm>
          <a:off x="1908000" y="0"/>
          <a:ext cx="528984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8984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Content Placeholder 3"/>
          <p:cNvGraphicFramePr/>
          <p:nvPr/>
        </p:nvGraphicFramePr>
        <p:xfrm>
          <a:off x="197964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Content Placeholder 3"/>
          <p:cNvGraphicFramePr/>
          <p:nvPr/>
        </p:nvGraphicFramePr>
        <p:xfrm>
          <a:off x="190800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Content Placeholder 3"/>
          <p:cNvGraphicFramePr/>
          <p:nvPr/>
        </p:nvGraphicFramePr>
        <p:xfrm>
          <a:off x="1979640" y="12600"/>
          <a:ext cx="528948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2600"/>
                    <a:ext cx="52894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5916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ТИЧКИ АПСЕКТИ  РАДА СА ЛАБОРАТОРИЈСКИМ ЖИВОТИЊАМА – ПОЧИЊУ ДОЛАСКОМ НА ПОС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765000"/>
            <a:ext cx="7129440" cy="10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042920" y="2205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ШТО ПРВО КАДА ДОЂЕМ НА ПОСАО ОБИЂЕМ ЖИВОТИЊ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042920" y="206064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42920" y="3429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ТО ШТО ЈЕ ТО ЕСЕНЦИЈАЛАН КОРАК У СВАКОМ ИСТРАЖИВА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042920" y="328464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116000" y="4581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Р: КАКО МОГУ ДА РАДИМ СА ГЛАДНИМ И ЖЕДНИМ ЖИВОТИЊА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42920" y="4437000"/>
            <a:ext cx="7129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И ПРИНЦ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ман  животиња (узгајање, руковање, ескперименталне процедуре...) – кључно за квалитет истраж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штај животиња (виваријум адекватних карактерис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ој животиња – увек што је могуће мањи бро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авданост употребе животиња (да ли постоје алтернативе-јефтиније и поуздане: компјутерске стимулације, културе ћелија...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Е КОМИ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је у свакој интитуцији у којој се спроводи истраж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так да испита и одобри извођење експеримента са етичког асп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ће се пројектом остварити предвиђени циљев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је предложена врста животиња одговарајућ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њихова употреба оправд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постоји патња животиња (привремена или трајна неспособност, смр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ли експерименталне процедуаре обухватају аналгезијау и анестезиј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15215" t="11437" r="14498" b="6250"/>
          <a:stretch/>
        </p:blipFill>
        <p:spPr>
          <a:xfrm>
            <a:off x="0" y="476280"/>
            <a:ext cx="9145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ЧКЕ КОМИ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чно дефинисани критеријуми (образци који се попуњава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ви к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ЧКА КОМИСИЈ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ЗАШТИТУ ДОБРОБИТИ ОГЛЕДНИХ ЖИВОТИЊА ФАКУЛТЕТА МЕДИЦИНСКИХ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 к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ЧКА КОМИСИЈ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АРСТВА ПОЉОПРИВРЕДЕ И ЗАШТИТЕ ЖИВОТНЕ СРЕДИНЕ ЗА ИЗВОЂЕЊЕ ЕКСПЕРИМЕНТА НА ЖИВОТИЊ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о истраж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1332000" y="2924280"/>
            <a:ext cx="287280" cy="576000"/>
          </a:xfrm>
          <a:prstGeom prst="downArrow">
            <a:avLst>
              <a:gd name="adj1" fmla="val 50000"/>
              <a:gd name="adj2" fmla="val 49986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1332000" y="4797360"/>
            <a:ext cx="287280" cy="576360"/>
          </a:xfrm>
          <a:prstGeom prst="downArrow">
            <a:avLst>
              <a:gd name="adj1" fmla="val 50000"/>
              <a:gd name="adj2" fmla="val 5001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а сугеришу међународне директи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280" y="12682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3 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lliam Russell and Rex Burch 19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3 R’s – Refinement, Reduction,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39640" y="278136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оцедур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ђењ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ал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р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ил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мум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ољша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живот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и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литет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г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огаће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ал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спериментал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ца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онс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ти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вез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цов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кр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мен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чк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чић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аж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бораторијск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љ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ра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етентн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ањ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н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нестз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гезију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истити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еутаназија када је потреб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20-05-10T12:12:41Z</dcterms:modified>
  <cp:revision>82</cp:revision>
  <dc:subject/>
  <dc:title>Физиологија срца</dc:title>
</cp:coreProperties>
</file>